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B9E-F932-4B35-9685-5877C7E0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7C1-0778-4863-977C-A016C4D3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E90-01A7-4019-A13B-47CB0780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36C-1FB4-46AD-A9A5-9F74B93D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FC7-D4ED-410C-8B6D-2C9D87F9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284-52BC-4AAA-A050-E8EE1956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016-179F-47F4-9DB4-3D1D4D2C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069-D608-471D-8903-1E52E121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A51-082F-4F90-9573-CD0F203A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151-E267-4F37-9F0E-A604DBF4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FDC-F7D0-4FA8-98D4-15A8185A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5B1-BDFC-4793-A52E-249B2AE4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60CE-1F1A-421E-B539-67540CF5C22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6840" cy="52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1"/>
          <p:cNvSpPr/>
          <p:nvPr/>
        </p:nvSpPr>
        <p:spPr>
          <a:xfrm>
            <a:off x="395280" y="3244680"/>
            <a:ext cx="5532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مربع نص 1"/>
          <p:cNvSpPr/>
          <p:nvPr/>
        </p:nvSpPr>
        <p:spPr>
          <a:xfrm>
            <a:off x="395280" y="418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مربع نص 1"/>
          <p:cNvSpPr/>
          <p:nvPr/>
        </p:nvSpPr>
        <p:spPr>
          <a:xfrm>
            <a:off x="395280" y="4902120"/>
            <a:ext cx="5532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مربع نص 1"/>
          <p:cNvSpPr/>
          <p:nvPr/>
        </p:nvSpPr>
        <p:spPr>
          <a:xfrm>
            <a:off x="395280" y="562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22840" y="1052640"/>
            <a:ext cx="5065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71520" y="1700280"/>
            <a:ext cx="7585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35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. لا بد أن يكون الإنفاق متواز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5359680" cy="5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504180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47973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قوبة في الدنيا و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2276640"/>
            <a:ext cx="85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ظيم لشان الوالدين والإحسان إليهما والنهي عن عقوقهم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6"/>
          <a:stretch/>
        </p:blipFill>
        <p:spPr>
          <a:xfrm>
            <a:off x="4524480" y="5381640"/>
            <a:ext cx="43686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324000" y="59500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له بدأ به ولا يقبل أي عمل إل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1892160" y="3156120"/>
            <a:ext cx="5359680" cy="54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2050920" y="3137040"/>
            <a:ext cx="5042160" cy="58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6"/>
          <a:stretch/>
        </p:blipFill>
        <p:spPr>
          <a:xfrm>
            <a:off x="3419640" y="4405320"/>
            <a:ext cx="4368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1530360"/>
            <a:ext cx="887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813040" y="4565520"/>
            <a:ext cx="351792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1089000"/>
            <a:ext cx="8642160" cy="565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35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320920"/>
            <a:ext cx="8507160" cy="44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917640"/>
            <a:ext cx="8613720" cy="135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4292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ص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جرهم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229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اً لين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124000" y="170028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طي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623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نفق المال في غير ح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وحيد 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أ الله تعالى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حسان إلى الوالدي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قوق ا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زداد بر الوالدين والإحسان إليهما والتلطف معهم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ا تقدم بهما العم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ول (أف) ل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هو من العق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كلمة (أف) على الوالدين من العقو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تدل على التضج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الآباء على الأبن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عاء لهم أحياء وأموات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576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غفرة الله تعالى تكون قريبة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هل الصلاح والإنابة والتو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081840"/>
            <a:ext cx="8665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ذوي القربى والمساكين وأبناء السبي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ر والإكرام لهم  ومنها ما هو واجب ومنها ما هو مسنو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إنفاق في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ء الملكان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في الأمور والقسط في الإنفاق المتواز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خل والتقتير والتبذير والإسراف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ؤدي التبذ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ندم والحسرة وبقاء الإنسان فارغ اليد متعرضاً لسؤال الناس والتذلل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3870360"/>
            <a:ext cx="86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طي الله ويمنع عن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عظيمة يعلمها الله سبحانه و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3:32Z</dcterms:modified>
  <cp:revision>1971</cp:revision>
  <dc:subject/>
  <dc:title>عرض تقديمي في PowerPoint</dc:title>
</cp:coreProperties>
</file>